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17CE-8B00-4749-BCED-1513AC557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histlervetservices.ca/diagnostic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s://irc.cchmc.org/about/facilities/7t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owstuffworks.com/nanotechnolog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M-679_FLAP_inhibitor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gadget.com/2010/04/alair_bronchial_thermoplasty_system_receives_fda_approval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vice.com/archives/2010/03/turn-yourself-i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stonscientific.com/lifebeat-online/cardiac-procedures/cardiac-catheteriz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vancouversun.com/2012/02/28/pet-scans-underused-underfunded-everywhere-except-quebe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heart-disease/doppler-ultrasound-of-an-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eartfailurematters.org/EN/WhatCanYourDoctorDo/Pages/221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utler.brocku.ca/oehs/emergency/defib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arp.ca/?attachment_id=108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et/weight-loss-surgery/restrictive-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adianaweightlosssurgery.com/gastric-banding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biomedical.com/2007/06/cath-lab-angiograph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pcmag.com/encyclopedia/term/50587/robotic-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altextboks.blogspot.ca/2013/04/textbook-endoscop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Heart Surgery image from: http://www.laserdudes.com/2012/04/laser-heart-surgery-facts-you-should-kno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alasikcenters.com/laser-eye-surg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owstuffworks.com/mr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miltonhealth.ca/cvs/mri-campaign/what-is-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tterypark.tv/doctors-dentists/doctors-rarely-tell-patients-of-ct-scan-ri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mm.edu/patiented/articles/bronchial_cancer_ct_scan_00018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469-CC40-4164-84A7-0B981FD2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F0D-FD68-42A7-A54E-692E35D6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244-12CE-480A-A5B2-FFE39B22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65F-E9EF-4A28-BBC3-8754722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FC2-B3B2-4994-9514-185865CA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8CD-9363-4245-8328-3A7B6898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88B-C4EA-45CB-BCE0-4038AFE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908-04A7-4C34-8050-DFB6C492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43A-F776-4FCA-B200-025C54A3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F2C-5D3A-445D-BB43-3809AAC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6FC-4D0F-4D40-9907-70770B7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DC6-5DA8-4D1D-ABC9-FC09B47F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2BA2-3E8A-4D4A-A05B-94929E0F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s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M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o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P 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nchial Thermopl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38280" y="1981080"/>
            <a:ext cx="606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icial Lu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Cathe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03560" y="1981080"/>
            <a:ext cx="473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59040" y="1981080"/>
            <a:ext cx="542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pler Ultra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15880" y="1981080"/>
            <a:ext cx="631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67080" y="1981080"/>
            <a:ext cx="420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12840" y="1981080"/>
            <a:ext cx="491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757080"/>
            <a:ext cx="777240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Sta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1640" y="1981080"/>
            <a:ext cx="360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c B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89440" y="1981080"/>
            <a:ext cx="316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86080" y="1981080"/>
            <a:ext cx="437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62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3160" y="609480"/>
            <a:ext cx="41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2960" y="1981080"/>
            <a:ext cx="605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47880" y="609480"/>
            <a:ext cx="544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7800" y="1981080"/>
            <a:ext cx="618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8920" y="1981080"/>
            <a:ext cx="60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1:49:10Z</dcterms:created>
  <dc:creator>rubina khan</dc:creator>
  <dc:description/>
  <dc:language>en-US</dc:language>
  <cp:lastModifiedBy>rubina khan</cp:lastModifiedBy>
  <dcterms:modified xsi:type="dcterms:W3CDTF">2013-05-13T02:24:15Z</dcterms:modified>
  <cp:revision>14</cp:revision>
  <dc:subject/>
  <dc:title>Internal Systems</dc:title>
</cp:coreProperties>
</file>